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226BB7-F467-418F-B02B-CCF1C6005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04EC368-6F7D-4D1E-8DF3-708DCB0F4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587DDE0-FE34-4A35-881F-0F08C3A73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8419BE-9936-472A-8484-DB48C5A4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1DC425-F947-4921-8BAD-89F78FD2F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s grade, crosses expectations, broad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ECEBCD-35A7-42B9-9439-48F81583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459AAB-1088-4D1A-8A53-4D57E15CBAF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F720A5-BC65-4CD2-B324-0618DE9F0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4C4622-D6FA-44AA-A6F7-3D4874B5A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BA5ECA-8375-4C88-9C1E-C64D44906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D5D3AA-C1C6-4DC9-B3AC-0E1123FD4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8D0C03-79F5-4386-A695-32B9FDB63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162B32-B437-40C0-974F-A2B160792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8CB131-C460-4DCE-84CF-F8E51BFAD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group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B48A06-92C2-4CE4-BD7E-C367FD3AF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group followed by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FF01FB-9F10-4111-A814-11973E4F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99BD01-A1FF-4C5B-9D80-27B35FFA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CB4E5A-ED6C-43DF-AB29-6DF10E960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table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74E058B-C2BA-4BA9-8914-52A9A2542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tables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3E7DCB-99B4-4B57-8418-F417EABC6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34E508-288C-4FF2-807E-6090E8F3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4B52E8-7F67-490D-AD80-9EA05C081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34F9E50-D464-4E90-A30D-561AFDA9B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k about the term Minds-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e solutions:   -9,-8,-7,….  Or  -38, -36,….  OR -67, -64, -61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k about how they got to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32AC20-F71D-41D3-A417-30A5C2142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D54172-D220-43DB-88A2-E156408C3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6C6AA3-70E6-497D-BEC6-D71603FF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BA3937-6D6D-4686-99E0-7F1F60C11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D87585-2BA5-4148-B238-10450CD42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DE8648-0CFE-4753-894A-4AC6A7289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4FD633-815A-4F17-8FCF-37F41C88D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6CCC01-4CE1-4047-BC39-624329CD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9DA501-8EB9-491D-A301-0A8DFF438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6AE9CE-7DF8-414A-9454-D51C22B6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BDDB7D-6421-4179-BED8-F1B77805A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s : positive if -9, -8,-7,….  (it would be 10)  or negative e.g. -270, -260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683AB5-D81B-4347-893E-E79C5E398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C3139B-B83C-422F-97C3-5FD068706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7EE0AA-EFB0-4D30-BCF8-D82FC790D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71F7FD-D340-4CC0-9F30-5DF1F0F5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be what other representation  ( or mayb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1AAA07-2220-480E-A709-4005A74FC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9C5BA2-0B05-43E6-AE8A-49226B277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41F3B4-8CC3-49D0-BD2A-E82C617BD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es closer to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0CCA5A-8120-4F99-B84B-A3F3E2E1A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es closer to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B603EB-3EB5-4B0B-93BB-C45A37E53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784013-89A4-4088-981C-7A9C4EC1B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A23757-8743-4148-84F5-3DE2C2DF1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DB530C-93A6-479D-AA2A-01316C548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7BD96B-8A82-46F5-BA1D-4BE4C034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908E7F-4433-4A60-AEB9-F70451DA4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73C83E-364D-46A8-95FC-33F6D9EC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be that there are many sequences with a common term; maybe what a linear growing pattern is; maybe that if the sequence grows fast then values that are near in position  are far apart but if the sequence goes slow, it’s not true; maybe it’s that sequences can grow fast or slow- discuss at tables and then in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240788-32BE-4641-B7B7-78DBCA489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would deal with first big idea regardless but second one only if I ask that other question- large group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6E5350-8AE8-4030-92D7-B2C4FBBE9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hetorical only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9631C1-6D40-430C-8906-6F1133132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360-4A3A-453E-8770-BDAD3E83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B8B-0181-41DA-8E7E-BAA09992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1C4-60B8-499F-ADC6-5E455214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F10-902F-446F-8328-249AC2E5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8238-2781-4C9B-92B5-82728B7B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6B49-09AB-4469-95BA-7EDB4776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78B2-2398-4644-9F49-D5518F94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E35C-D9A8-4731-B357-A6D8E983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8C47-362A-47F0-8A52-C07CC7A7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7F07-15B4-4056-9C36-F4438170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86D1-4D75-4B65-B06F-939C0C03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E7C-88A5-401A-BB2C-53B5034B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0D5A-6A62-4665-A56A-573B8D68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02B4-95BE-4490-8872-28D5ED1E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86AB-222E-442E-B023-51AC979B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6901-B188-46C2-8425-2E1ABE45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4CDD-4B66-4851-9BF4-8A6EF07C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3D4-588D-4AF5-B76E-76F46CC4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2CC-0BC4-4BE1-ADB2-3CD5DE0C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091-9DCD-4477-8CBE-0C7D4F00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843-8D9C-46E0-A208-2A25BBEC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136-6081-477C-B2A6-2CC5A223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6DB-F080-43EF-ABDB-14D7BE13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58D-F00E-4F45-8D50-12159BD1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9DA9-71F6-4BFC-96FB-16DAA1EB66E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E741-98BB-44EF-A336-566FD12060A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etwoinfinity.ca/" TargetMode="External"/><Relationship Id="rId2" Type="http://schemas.openxmlformats.org/officeDocument/2006/relationships/hyperlink" Target="mailto:mkestell@sympatico.ca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2819520" y="5257800"/>
            <a:ext cx="5308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Plenary 1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95280"/>
            <a:ext cx="571500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ummer Institute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under Bay</a:t>
            </a:r>
            <a:br>
              <a:rPr sz="4800"/>
            </a:br>
            <a:endParaRPr b="0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73000" y="31240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ou Kes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Rod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dy Tel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5800" y="9907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are the Big Idea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0880" y="2438280"/>
            <a:ext cx="87631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andall Charles: A Big Idea is a statement of an idea that is central to the learning of mathematics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0963-0DCF-442D-A9FA-721F54F516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457200" y="2209680"/>
            <a:ext cx="817884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rian Small: A Big Idea is one that connects numerous mathematical understandings into a coherent whol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6827-ADCA-4B6C-A894-F6005BB24E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are Big Idea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4300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A Big Ide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1447920"/>
            <a:ext cx="8458200" cy="67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NOT a topic name nor an overall expectation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a statement (sentence) that a student could walk away with that makes a fundamental mathematical connecti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vides a lens in which to embed new learning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AD15-8272-4CA2-ACCB-EA8524F576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38080" y="91440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Big Idea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92AA-A9F2-456B-8BA3-07E25682C6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132000" y="1052640"/>
            <a:ext cx="5554800" cy="5562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0" y="1614600"/>
            <a:ext cx="5029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Represen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c0000"/>
                </a:solidFill>
                <a:latin typeface="Arial"/>
              </a:rPr>
              <a:t>Reflec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ff"/>
                </a:solidFill>
                <a:latin typeface="Arial"/>
              </a:rPr>
              <a:t>Reasoning and Prov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cc00"/>
                </a:solidFill>
                <a:latin typeface="Arial"/>
              </a:rPr>
              <a:t>Connec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8080"/>
                </a:solidFill>
                <a:latin typeface="Arial"/>
              </a:rPr>
              <a:t>Selecting Tools and Computational Strate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 rot="18202800">
            <a:off x="3752640" y="339372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-57240" y="196524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0"/>
          <p:cNvSpPr txBox="1"/>
          <p:nvPr/>
        </p:nvSpPr>
        <p:spPr>
          <a:xfrm rot="19346400">
            <a:off x="5314680" y="3166560"/>
            <a:ext cx="89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1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athematical Process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526E-006 L 0.30642 0.22196 E">
                                      <p:cBhvr>
                                        <p:cTn id="20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5723E-006 L 0.67431 -0.04 E">
                                      <p:cBhvr>
                                        <p:cTn id="203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0.37552 -0.17989 E">
                                      <p:cBhvr>
                                        <p:cTn id="20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6647E-006 L 0.37621 0.07976 E">
                                      <p:cBhvr>
                                        <p:cTn id="207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31214E-006 L 0.49705 -0.20879 E">
                                      <p:cBhvr>
                                        <p:cTn id="20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3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3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3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3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1329E-006 L 0.45347 0.15977 E">
                                      <p:cBhvr>
                                        <p:cTn id="281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0867E-006 L 0.61268 0.34174 E">
                                      <p:cBhvr>
                                        <p:cTn id="294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2280" y="6094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Notice the proce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4B5C-0E25-4FCC-9185-247F621AD4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152280" y="1447920"/>
            <a:ext cx="4648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ig Idea #1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5105520" y="1981080"/>
            <a:ext cx="4343400" cy="4434120"/>
            <a:chOff x="5105520" y="1981080"/>
            <a:chExt cx="4343400" cy="4434120"/>
          </a:xfrm>
        </p:grpSpPr>
        <p:grpSp>
          <p:nvGrpSpPr>
            <p:cNvPr id="147" name="Group 10"/>
            <p:cNvGrpSpPr/>
            <p:nvPr/>
          </p:nvGrpSpPr>
          <p:grpSpPr>
            <a:xfrm>
              <a:off x="6095880" y="4114800"/>
              <a:ext cx="2144880" cy="2300400"/>
              <a:chOff x="6095880" y="4114800"/>
              <a:chExt cx="2144880" cy="2300400"/>
            </a:xfrm>
          </p:grpSpPr>
          <p:pic>
            <p:nvPicPr>
              <p:cNvPr id="148" name="Picture 2" descr="gear"/>
              <p:cNvPicPr/>
              <p:nvPr/>
            </p:nvPicPr>
            <p:blipFill>
              <a:blip r:embed="rId1"/>
              <a:srcRect l="10754" t="22727" r="24492" b="27194"/>
              <a:stretch/>
            </p:blipFill>
            <p:spPr>
              <a:xfrm>
                <a:off x="6095880" y="4267080"/>
                <a:ext cx="2144880" cy="214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WordArt 10"/>
              <p:cNvSpPr txBox="1"/>
              <p:nvPr/>
            </p:nvSpPr>
            <p:spPr>
              <a:xfrm rot="19346400">
                <a:off x="6711840" y="4963680"/>
                <a:ext cx="895320" cy="323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Communicating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pic>
            <p:nvPicPr>
              <p:cNvPr id="150" name="WordArt 8" descr=""/>
              <p:cNvPicPr/>
              <p:nvPr/>
            </p:nvPicPr>
            <p:blipFill>
              <a:blip r:embed="rId2"/>
              <a:stretch/>
            </p:blipFill>
            <p:spPr>
              <a:xfrm>
                <a:off x="6242040" y="5407200"/>
                <a:ext cx="108504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WordArt 6"/>
              <p:cNvSpPr txBox="1"/>
              <p:nvPr/>
            </p:nvSpPr>
            <p:spPr>
              <a:xfrm rot="20286600">
                <a:off x="6489000" y="4409280"/>
                <a:ext cx="1656000" cy="3873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Reasoning and Proving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52" name="TextBox 11"/>
            <p:cNvSpPr/>
            <p:nvPr/>
          </p:nvSpPr>
          <p:spPr>
            <a:xfrm>
              <a:off x="5105520" y="1981080"/>
              <a:ext cx="43434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communicating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reasoning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connecting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6094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Big Idea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57200" y="1371600"/>
            <a:ext cx="83818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A7ED-C437-4684-9743-E36C61ECEF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581280" y="5288040"/>
            <a:ext cx="5181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ich processes do you see embedded in this 2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nd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big idea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6094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Big Idea #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57200" y="1295280"/>
            <a:ext cx="86868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, verbal, concrete/pictorial) highlight different characteristics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haviours, and can serve different                           purpos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3A23-C3C9-4D4B-8532-C77BD99242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733920" y="5288040"/>
            <a:ext cx="5410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ich processes do you see embedded in this 3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rd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big idea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762120" y="68580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Big Idea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09480" y="1447920"/>
            <a:ext cx="779796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                      relationshi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B998-0AD9-4F71-A1B0-87A4A1E864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038480" y="4876920"/>
            <a:ext cx="5105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ich processes do you see embedded in this 4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th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big idea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371600" y="914400"/>
            <a:ext cx="669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Getting a feel for the big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E728-4AF4-4FCE-A430-46DECE25D4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 Focus on Big Idea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n 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Lou Kes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www.onetwoinfinity.ca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mkestell@sympatico.ca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69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Getting a feel for the big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3BFE-6192-49C2-A277-657046C913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54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143000" y="266688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E492-3860-4A4A-9F63-E090439B980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90720" y="990720"/>
            <a:ext cx="730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219320" y="297180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CADD-8701-41C3-888C-B5AA749529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38080" y="312408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#1 show the notion of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generalizatio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33E8-9F0A-4CD6-ADF8-C7AC793528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#1 show the notion of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describing or analyzing relationships or chang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85C8-F7A0-4DBD-BE48-47370CE2E5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143000" y="266688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could the question that matched Big Idea #2 broaden a student’s notion of what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 “class” of relationships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ight b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35B0-BB00-431F-8D5E-619814D8CC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04920" y="259092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#3 broaden a student’s sense of what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different representations mean and/or what their purpose i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95B7-49D1-4E92-BDE6-C249907520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04920" y="2666880"/>
            <a:ext cx="88390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Can you think of other examples that you’ve used in the past (with or without realizing it) to make students see Big Ideas #4 that </a:t>
            </a:r>
            <a:r>
              <a:rPr b="1" lang="en-US" sz="4200" spc="-1" strike="noStrike">
                <a:solidFill>
                  <a:srgbClr val="0000ff"/>
                </a:solidFill>
                <a:latin typeface="Comic Sans MS"/>
              </a:rPr>
              <a:t>from limited information you can get more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FB25-BA43-461C-BC6E-30838301B79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838080" y="83808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You</a:t>
            </a: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 just experienced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 parallel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2819520"/>
            <a:ext cx="81788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A9D7-3921-456A-861A-98EACE9AC3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62120" y="83808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y use big idea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33520" y="1828800"/>
            <a:ext cx="81532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both through grades and within grad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4787-65F5-462D-86DC-85BFA292DD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981080"/>
            <a:ext cx="86104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 in a linear growing pattern is negati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 is 20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29FD-249B-4BD5-9892-B926F95D5D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990720" y="762120"/>
            <a:ext cx="730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haring big ideas             with stud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33520" y="2514600"/>
            <a:ext cx="81532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students articulate big ideas, it becomes easier for them to make connections to prior knowledg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D047-D201-4AA3-ABC2-FDAB4ABD6C8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Building lesson goa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066680" y="251460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9253-8906-47DD-9952-4CBDEADB260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914400" y="7621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.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4031-81D8-4471-8E51-B297565D76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685800" y="8380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is my lesson go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066680" y="22096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“students will use a balance to solve a linear equation”, but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1BD8-2E81-4D7A-87B4-8ED83CBDF1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38080" y="83808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is my lesson goal  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mayb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62120" y="2590920"/>
            <a:ext cx="79246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cognizing that solving an equation means determining an equivalent equation where the unknown value is more obvious.”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AD00-0334-4E9F-92D7-C59DCD3471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5800" y="68580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I mea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85800" y="1828800"/>
            <a:ext cx="84582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DCC0-49E9-479A-AA54-0D348BC05F1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762120" y="76212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I mean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57200" y="457200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hese equations are equivalen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 = 4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2x – 7  = 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3x + 7 = x + 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643A-F90B-4CB8-B635-CF79BCCF21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09480" y="2133720"/>
            <a:ext cx="8102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certainly is easier to see the value of the unknown in one of these equation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685800" y="68580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does this mean for consolidating the less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066680" y="25909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D352-23AD-4038-960E-6D8B04DE31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838080" y="8380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solidation op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57200" y="1676520"/>
            <a:ext cx="802656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gree or disagre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quation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5x – 4 =  17 + 3x             is really the equation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 = 10.5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 disguis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E8C9-7400-492B-ACBD-6A235C68F4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838080" y="7621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solidation op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990720" y="1523880"/>
            <a:ext cx="741672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 = 10.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3848-2497-49AF-9C6C-163FB800E7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2014560"/>
            <a:ext cx="84582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 is tha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AE17-11D4-4201-9F91-227D52CAA6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7621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solidation op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066680" y="19051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D9E7-9FD5-4F3E-BCFF-7693FCA23F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914400" y="7621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One more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1752480"/>
            <a:ext cx="82296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urriculum expectation reads: construct tables of values and graphs using a variety of tools to represent linear relations derived from descriptions of realistic situations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FAA3-56DF-4185-8A5B-7DA03983D4C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5800" y="68580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ossible go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04920" y="1676520"/>
            <a:ext cx="86104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udents will see that it is useful to write the table of values where the independent variable increases in a consistent way, but that’s not required for all tables of valu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4D61-4E0C-415B-B8E9-5B4FE11CB2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28600" y="685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Related consolidation 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33520" y="1600200"/>
            <a:ext cx="83818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termine whether or not they represent linear relationships. Which table makes it easier to tel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EA11-9EB2-48E3-BF05-3296FEC6B66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EF11-B5AD-491C-AA1F-30D9181502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44792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nd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066680" y="19810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AEFF-2A1C-4E41-9593-FA127A3C33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066680" y="8380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O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80880" y="1752480"/>
            <a:ext cx="87631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y goal could have been, instead, to ask students to consider how a graphical representation of a relationship described verbally gives other insights into the relationshi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0E88-0349-4FA4-845B-8EE29C4A488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That consolidating could have been 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85800" y="2971800"/>
            <a:ext cx="79502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characteristics of the relationship did the graph make easy to see that were not so obvious befo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D997-091F-4C7B-BDF1-39953AD92F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09480" y="68580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solidate today’s 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9E8E-8706-45E7-A2A2-6C8E819A2B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09480" y="1600200"/>
            <a:ext cx="81536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the difference between an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expectatio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big idea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 O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’s so big about big idea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In preparation for our next time together: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045E-C5FF-4197-ACA9-C5B3553521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09480" y="2666880"/>
            <a:ext cx="802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you think about what you consider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important issues in developing lesson goal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haracteristics of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289548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500C-D715-4B9B-A808-ECD2FA4198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762120" y="76212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The Important Boo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609480" y="198108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, The Important Book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40FF-19D6-4CAC-99E8-063417DA7C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B1A4-702F-4782-B942-401116B567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Picture 1.png"/>
          <p:cNvPicPr/>
          <p:nvPr/>
        </p:nvPicPr>
        <p:blipFill>
          <a:blip r:embed="rId1"/>
          <a:stretch/>
        </p:blipFill>
        <p:spPr>
          <a:xfrm>
            <a:off x="0" y="0"/>
            <a:ext cx="6311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609480" y="7621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e wil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EECB-767F-4AB1-B81C-0B484BB93B5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609480" y="1981080"/>
            <a:ext cx="815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haracteristics of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do you think the important math underlying idea i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6435-B808-4C6E-B038-BA78ECF68D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haracteristics of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would this question prompt students to deal with that underlying idea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1171-54F4-4981-A4D6-3130BA96C4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14400" y="99072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Might lead to students being able to respond to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5800" y="2895480"/>
            <a:ext cx="779796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322D-DEA9-4F91-A3DF-94006E4955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4DD1-8991-4AF7-B649-D13D9CE40D1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7:28:48Z</dcterms:created>
  <dc:creator>Peel District School Board</dc:creator>
  <dc:description/>
  <dc:language>en-US</dc:language>
  <cp:lastModifiedBy>Kathy Kubota-Zarivnij</cp:lastModifiedBy>
  <dcterms:modified xsi:type="dcterms:W3CDTF">2009-08-20T17:46:14Z</dcterms:modified>
  <cp:revision>31</cp:revision>
  <dc:subject/>
  <dc:title>Coaching for Math GAINS Professional Learning</dc:title>
</cp:coreProperties>
</file>